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0DF-E17C-4943-9E3E-A7727805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B00-6764-4DB3-90BF-4652BEDF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F97A7-F94B-4352-ACCB-0511A75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7D9D-1474-45EC-AAC7-4F4FD0DA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1D552-5E54-4F67-8711-A40D44F0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C3DC0-AAA5-4B7F-AA92-A1115004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E1558-C49A-487E-B76A-3BD1E901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814BF-82A5-4617-A3B9-8F8BE51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0F760-51D4-45AF-A695-BEDA691C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CFF9E-E3FE-4B94-AF02-82B35A34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17F23-745E-4A96-A732-AD402EB1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8B85F-CEDE-41EF-9BFA-4D803593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E5F-CDD0-4B26-9763-EA1A8AA9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FCF72-FBD8-4669-A6F4-07E1D986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74977-FC77-4557-955B-0E93E88B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E1121-2F78-4D4E-BD99-75527CDF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B5C07-EB1D-4FF8-8311-A140A715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70F24-FEF6-4521-9E9E-30EC0A4C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88F6B-C90F-4B15-942D-A375D0B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6E46F-0F42-43D5-9AF7-80D98B2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8340B-0E1D-4261-A8F1-8A99A7B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D1454-1D39-425D-A9D9-D850E912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C2F80-374C-4384-A6A1-0F40BECD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33C-0D35-4AB7-B09B-8E14A6E87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0A8D6-3DEF-4193-B6EA-0CBE1CE7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FCF25-F0C5-417B-9408-C6D83250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364A6-F091-496A-8C6E-7652347A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CE439-0B54-4D62-B2FA-7FD6A93A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220C4-1FB7-4840-BEA2-79B837B2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80AE0-5DEF-40F0-A5F5-C3F4E65E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0C7DD-8F45-493D-A6D1-E35B05B4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CA6C7-DC7D-4658-9ADC-B2FC5A31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5C623-77FA-4425-AF3D-14545D21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20573-CC2F-4CD9-A3F6-12BD306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FE78-7827-46DF-81A2-63CCB674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38F5F-962E-44B1-9440-EB80691C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35787-2742-49F6-9969-7FB473B7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A4B2A-10C2-4360-BC10-7ABCF532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C519F-BB46-4BCE-A55D-5D35CAF2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861C2-AE8A-419C-8347-A1F01077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6967-0E89-4013-A521-EFFC24AE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3E2BD-9A3D-460E-B5DC-1897C6D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8E492-6773-41B4-9075-83F720A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A3338-735D-44BD-8980-E2A2E82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5398E-757C-41B3-A0CC-8832F8A2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D786-0AF5-41F8-B7C1-FB45E4B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769CC-1675-4178-9C80-5B2B9863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DB0C6-79F9-4C12-BC2B-066E5D1D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6E712-2609-4906-A5B3-E9F9602E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C2EB2-D14E-4AE2-8BA7-E45A9D34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2965E-07F5-4C9E-BF43-C87E9034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2A59-3D14-4CD5-B986-17F6CAC5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ECD-875D-4242-8A8C-A01439E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5ADF-F9AD-4A8C-B64F-88DCDC0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D64A-9045-4A5A-8634-65C305BF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C943-5B18-44A6-B9DE-B925E6A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02D5-1004-48D3-914A-94BECDC8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E55D-18CB-42BC-A4F2-ABC504CC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8A52-B3AB-4DFF-B8F2-4F225982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12FC-AFB5-4D94-B585-8CCCF092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E41C-2868-425B-9499-3A804865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CC4B-467A-4440-B86C-FB4040FF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96EC-53F0-41B3-9504-F1DC17A6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B702-7994-4B24-A416-F5926F99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E429-AE02-40D1-9A43-3BD88947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44381-9CAF-43D7-8E0A-589B25EC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6356-FB21-4D25-A7A2-F569B3C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A34-9CAD-40F8-B9CA-09E4F9A8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0C15-23F0-474D-989F-DFDCBF76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215A-FACF-4C5F-A982-7570406F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026D-1F36-48DA-BFFF-55183942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D5890-163B-43F2-BB78-3A88A73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92F3-CB80-4E14-81AF-917C372B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6125F-3BB9-4489-B9C9-D0F9AE63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C0EC0-4F42-4ABD-8E4E-B8BB570E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6FA1A-0E11-4B6C-87A3-466BB676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1F78A-3210-4751-A521-267C05F4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91D8-F8E7-4A4F-B483-0F0328E9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D48-7A59-4EF9-98E1-7F8FD451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EE960-AFAF-4795-95AC-C270DCAA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D51F-82AC-4E02-AD4B-B9893349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CA19-7E8E-4612-B891-86C702BD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84EB3-129D-402D-940D-DCB50ECB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40C2-8DC9-42BE-9568-97795BE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1B7D-3CB1-4AE5-9B6F-93FEEAE7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1B4B-7E2D-4789-B054-86BB4424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D7AE6-2F39-45CC-9A5E-50DC05E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482F9-995D-4CF6-8A44-02CF3009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7DAD-F089-4805-B07F-C10D0A1E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FD22-B546-4BB4-B265-026C2196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784E9-7B6C-480B-B972-0E8C702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125BF-E1B3-40C2-A197-2B11373D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E0AD8-C84D-4F62-9C82-3B608FE1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89945-7BAB-4345-9982-76E6A0CA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C2CA3-D052-4EFD-A5E6-8334A78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E90B6-B238-4832-88FA-5EBC716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9EEE6-5BF7-4619-AA52-E9331D1C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8DCB1-E9DE-4F51-9A07-57DE78FB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97E0F-40BB-48BA-B4E7-395ABFFA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3F08-929F-46B2-851E-24D07AA5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CE88-38F2-4DDC-9335-63EBC0F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55E4-FA81-4598-AFD2-EE64F347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EB498-3547-4605-9D3D-1290F52D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9988E-3C88-460C-A6DA-1F3170E9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9A65-09CB-46CF-BBFF-F2E16BA1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266B-42B9-49C8-8B80-2F6F5C3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87E98-D33C-4B44-84FF-F910FB1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B9568-8685-46FC-A5D0-F363332D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D1D1B-DB91-4B32-A560-861B4B5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1D590-4429-4EB2-98B3-C1937BBA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45E9D-89FC-4CB9-9840-08C5FAC4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DC5-ADC1-4A6B-98C4-CC6EA27F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53AAE-A695-4F8D-BA2F-A148B287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823EE-2F2F-430D-BDB7-7D1D5E46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A3B9-87EE-42CB-9586-DE7EB372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93BE-8271-402F-9320-C69359F0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44110-8A6F-4960-AB9A-1494BEBB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574AE-6843-49ED-8828-79331C42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0689-A907-4BB4-8AC8-70BCCC0E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4687-A713-46AE-B495-1CDAAD20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B6E1C-788D-473F-8654-E2DE6CA9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D95D8-60C0-4316-8F23-7922D461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51A-CB60-42EC-8AC9-CFF79D6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B2F96-059E-4DB2-BD0E-AD42884E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BF0B1-DEC1-470F-9E93-DB5BD764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FD792-520C-464E-B4C1-ACB4D408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0E65E-F823-43CE-888E-8911CAE4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BC0A-7EE9-4566-AB9B-B5715E28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F3340-E030-45DA-8589-59D9314E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88056-825B-4393-AE7B-D4D7BFA8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44053-6F62-4AAB-85BC-B18ECB7D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2A2C3-E683-43B0-AA87-39B6563B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C4EC1-9BA7-4AD7-A6DF-ED0F2BA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13D-3BFE-48E8-80DF-04EEFC5E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CAE8-B885-4148-803B-A7B9B2D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936A-095A-400B-82FB-8A9C759B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995D-3901-4BCA-A7EC-7D7CF57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31F04-C7D0-4D36-AF1F-B140B167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9F70F-448E-4610-BDB6-58D73508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13F5D-4107-430E-92D4-1FF7BCA6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F5F6-3845-4D98-ACBB-3A2F0CE1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E3932-C620-4B7D-8216-308FF967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FF558-87CC-4A28-B976-776A7DE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6EE62-DDD7-4E73-9AC6-197AAE9E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0CA-0FF5-4EAE-B7DD-F9DB3336960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D8B2-30B5-4890-B6B4-92ED8E8C1B4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5F4E-3FF7-4E22-9168-9BAD1725B3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703A-2949-4D8D-B7A2-E3DC7B5F57B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A5C-A0C5-41E2-AB6E-D596BEA7B01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075-AB67-4C01-9E43-DA55A515459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F2ED-3DF0-4994-A5FE-7541B5D86AF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FD0D-9F8E-4EFD-B080-B6DAEDDAF29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F978-0BAC-4CA2-AB5E-248A0D27646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EF64-23E0-4FFD-A773-D657AC55385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F15C-9456-4E5E-A5A4-C55182F5BF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717D-D585-4E5B-B03C-4EFC57BD1C4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  <a:ea typeface="Arial"/>
              </a:rPr>
              <a:t>Pretvorbe energi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Arial"/>
                <a:ea typeface="Arial"/>
              </a:rPr>
              <a:t>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e se pretvorbe energije događaju kada se penješ na tobogan i spuštaš niz nje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95480" cy="4078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2828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5672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a rada u kinetičku energij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ounded Rectangle 5"/>
          <p:cNvSpPr/>
          <p:nvPr/>
        </p:nvSpPr>
        <p:spPr>
          <a:xfrm>
            <a:off x="685800" y="5029200"/>
            <a:ext cx="289548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MIŠIĆNE 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ounded Rectangle 6"/>
          <p:cNvSpPr/>
          <p:nvPr/>
        </p:nvSpPr>
        <p:spPr>
          <a:xfrm>
            <a:off x="5105520" y="5029200"/>
            <a:ext cx="373356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 ENERGIJA LO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ight Arrow 7"/>
          <p:cNvSpPr/>
          <p:nvPr/>
        </p:nvSpPr>
        <p:spPr>
          <a:xfrm>
            <a:off x="3962520" y="52578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vaterpolo-udarac"/>
          <p:cNvPicPr/>
          <p:nvPr/>
        </p:nvPicPr>
        <p:blipFill>
          <a:blip r:embed="rId1"/>
          <a:stretch/>
        </p:blipFill>
        <p:spPr>
          <a:xfrm>
            <a:off x="457200" y="1828800"/>
            <a:ext cx="3200400" cy="2128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lopta"/>
          <p:cNvPicPr/>
          <p:nvPr/>
        </p:nvPicPr>
        <p:blipFill>
          <a:blip r:embed="rId2"/>
          <a:stretch/>
        </p:blipFill>
        <p:spPr>
          <a:xfrm>
            <a:off x="3809880" y="2438280"/>
            <a:ext cx="108612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4312E-006 L 0.40729 0.00509 E">
                                      <p:cBhvr>
                                        <p:cTn id="14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a </a:t>
            </a: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kinetičke energije u rad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ounded Rectangle 5"/>
          <p:cNvSpPr/>
          <p:nvPr/>
        </p:nvSpPr>
        <p:spPr>
          <a:xfrm>
            <a:off x="5410080" y="175248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LOPTE NAD DRUGIM TIJE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6"/>
          <p:cNvSpPr/>
          <p:nvPr/>
        </p:nvSpPr>
        <p:spPr>
          <a:xfrm>
            <a:off x="304920" y="1752480"/>
            <a:ext cx="373356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 ENERGIJA LO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ight Arrow 7"/>
          <p:cNvSpPr/>
          <p:nvPr/>
        </p:nvSpPr>
        <p:spPr>
          <a:xfrm>
            <a:off x="4267080" y="2057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8" descr=""/>
          <p:cNvPicPr/>
          <p:nvPr/>
        </p:nvPicPr>
        <p:blipFill>
          <a:blip r:embed="rId1"/>
          <a:stretch/>
        </p:blipFill>
        <p:spPr>
          <a:xfrm>
            <a:off x="3124080" y="2819520"/>
            <a:ext cx="2514600" cy="21430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9"/>
          <p:cNvSpPr/>
          <p:nvPr/>
        </p:nvSpPr>
        <p:spPr>
          <a:xfrm>
            <a:off x="1326240" y="5334120"/>
            <a:ext cx="6808680" cy="947160"/>
          </a:xfrm>
          <a:prstGeom prst="rect">
            <a:avLst/>
          </a:prstGeom>
          <a:solidFill>
            <a:srgbClr val="ebf1de"/>
          </a:solidFill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inetička energija je sposobnost tijela da zb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v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ga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gibanja obavi rad na drugim tijel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</a:t>
            </a: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e elastične energije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ounded Rectangle 5"/>
          <p:cNvSpPr/>
          <p:nvPr/>
        </p:nvSpPr>
        <p:spPr>
          <a:xfrm>
            <a:off x="4952880" y="175248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NA LU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6"/>
          <p:cNvSpPr/>
          <p:nvPr/>
        </p:nvSpPr>
        <p:spPr>
          <a:xfrm>
            <a:off x="4572000" y="3352680"/>
            <a:ext cx="373392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STIČNA ENERGIJA 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ight Arrow 7"/>
          <p:cNvSpPr/>
          <p:nvPr/>
        </p:nvSpPr>
        <p:spPr>
          <a:xfrm rot="5400000">
            <a:off x="6095880" y="4495680"/>
            <a:ext cx="648000" cy="19080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040200" cy="2743200"/>
          </a:xfrm>
          <a:prstGeom prst="rect">
            <a:avLst/>
          </a:prstGeom>
          <a:ln w="0">
            <a:noFill/>
          </a:ln>
        </p:spPr>
      </p:pic>
      <p:sp>
        <p:nvSpPr>
          <p:cNvPr id="525" name="Rounded Rectangle 9"/>
          <p:cNvSpPr/>
          <p:nvPr/>
        </p:nvSpPr>
        <p:spPr>
          <a:xfrm>
            <a:off x="4572000" y="5029200"/>
            <a:ext cx="373392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INETIČKA ENERGIJA STRIJ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ight Arrow 10"/>
          <p:cNvSpPr/>
          <p:nvPr/>
        </p:nvSpPr>
        <p:spPr>
          <a:xfrm rot="5400000">
            <a:off x="6095880" y="2819160"/>
            <a:ext cx="609480" cy="152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457200" y="5334120"/>
            <a:ext cx="1066680" cy="0"/>
          </a:xfrm>
          <a:prstGeom prst="line">
            <a:avLst/>
          </a:prstGeom>
          <a:ln w="38160">
            <a:solidFill>
              <a:srgbClr val="104bf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1.97085E-006 L 0.39167 1.97085E-006 E">
                                      <p:cBhvr>
                                        <p:cTn id="4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171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f6228"/>
                </a:solidFill>
                <a:latin typeface="Arial"/>
                <a:ea typeface="Arial"/>
              </a:rPr>
              <a:t>Energij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803160" y="1523880"/>
            <a:ext cx="7072200" cy="1191240"/>
          </a:xfrm>
          <a:prstGeom prst="rect">
            <a:avLst/>
          </a:prstGeom>
          <a:noFill/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avlja li tijelo rad, energija mu se pritom smanj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oliko koliko iznosi obavljeni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3"/>
          <p:cNvSpPr/>
          <p:nvPr/>
        </p:nvSpPr>
        <p:spPr>
          <a:xfrm>
            <a:off x="651960" y="3276720"/>
            <a:ext cx="693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zvor energije – tijelo koje obavlj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telj energije – tijelo na kojemu se obavlja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759600" y="4952880"/>
            <a:ext cx="667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ergija  - fizikalna veličina (zna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jerna jedinica energije džul (znak 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82368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Pretvorba rada u </a:t>
            </a: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gravitacijsku 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energij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ounded Rectangle 5"/>
          <p:cNvSpPr/>
          <p:nvPr/>
        </p:nvSpPr>
        <p:spPr>
          <a:xfrm>
            <a:off x="685800" y="5029200"/>
            <a:ext cx="289548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 MIŠIĆNE S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6"/>
          <p:cNvSpPr/>
          <p:nvPr/>
        </p:nvSpPr>
        <p:spPr>
          <a:xfrm>
            <a:off x="5105520" y="5029200"/>
            <a:ext cx="3733560" cy="762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VITACIJSKA  ENERGIJA LO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ight Arrow 7"/>
          <p:cNvSpPr/>
          <p:nvPr/>
        </p:nvSpPr>
        <p:spPr>
          <a:xfrm>
            <a:off x="3962520" y="52578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48196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6969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Zakon očuvanja energije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686560" cy="3562200"/>
          </a:xfrm>
          <a:prstGeom prst="rect">
            <a:avLst/>
          </a:prstGeom>
          <a:ln w="0">
            <a:noFill/>
          </a:ln>
        </p:spPr>
      </p:pic>
      <p:sp>
        <p:nvSpPr>
          <p:cNvPr id="539" name="TextBox 9"/>
          <p:cNvSpPr/>
          <p:nvPr/>
        </p:nvSpPr>
        <p:spPr>
          <a:xfrm>
            <a:off x="203400" y="5029200"/>
            <a:ext cx="8696880" cy="1191240"/>
          </a:xfrm>
          <a:prstGeom prst="rect">
            <a:avLst/>
          </a:prstGeom>
          <a:solidFill>
            <a:srgbClr val="ebf1de"/>
          </a:solidFill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ergija se može pretvarati iz jednog oblika u drugi ili prenosi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tijela na tijelo, ali ne može nestati ili ni iz čega nas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tobogan"/>
          <p:cNvPicPr/>
          <p:nvPr/>
        </p:nvPicPr>
        <p:blipFill>
          <a:blip r:embed="rId2"/>
          <a:stretch/>
        </p:blipFill>
        <p:spPr>
          <a:xfrm>
            <a:off x="4724280" y="1447920"/>
            <a:ext cx="4038840" cy="3359160"/>
          </a:xfrm>
          <a:prstGeom prst="rect">
            <a:avLst/>
          </a:prstGeom>
          <a:ln w="0">
            <a:noFill/>
          </a:ln>
        </p:spPr>
      </p:pic>
      <p:sp>
        <p:nvSpPr>
          <p:cNvPr id="541" name="Line 6"/>
          <p:cNvSpPr/>
          <p:nvPr/>
        </p:nvSpPr>
        <p:spPr>
          <a:xfrm>
            <a:off x="2438280" y="2209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>
            <a:off x="2057400" y="35053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2057400" y="4495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3"/>
          <p:cNvSpPr/>
          <p:nvPr/>
        </p:nvSpPr>
        <p:spPr>
          <a:xfrm>
            <a:off x="272520" y="1676520"/>
            <a:ext cx="8722800" cy="91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Je li jednako povećanje gravitacijske energije tijela vatrogasa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ko se vatrogasci penju iz prizemlja na prvi ka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a) stubama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b) ljestva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e pretvorbe energije događaju u žarulji koja svijetl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e se pretvorbe događaju pri skakanju dječaka na trampol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pišite pretvorbe energije pri njihanju na ljuljač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Opišite pretvorbe energije koje se događaju bacanjem lopte uv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iši pretvorbe energije koje se događaju bacanjem lopte uv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dredi gravitacijsku energiju torbe mase 0,5 kg koja se nalazi 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lici visine 1,2 m iznad t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Slika 1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1:32Z</dcterms:created>
  <dc:creator>Slavko</dc:creator>
  <dc:description/>
  <dc:language>en-US</dc:language>
  <cp:lastModifiedBy>Tomislav Dumančić</cp:lastModifiedBy>
  <dcterms:modified xsi:type="dcterms:W3CDTF">2019-09-17T08:59:46Z</dcterms:modified>
  <cp:revision>42</cp:revision>
  <dc:subject/>
  <dc:title>Slide 1</dc:title>
</cp:coreProperties>
</file>